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AA91-2B36-46B5-BA5B-F78D7F0DC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8759-7543-4A38-9C47-08DC2242C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0454-BAD6-43E9-B68C-A6D31AB3C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E9BA-EA3B-4F9D-9235-33DF95A1D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A84A-CFE1-483F-9E1E-C9E9E1496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FF5F-7770-4DE4-A215-A55F39870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7A09-FA61-4A63-BAAA-A7BC8480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7673-732B-4768-9367-C2899683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0C54-3D52-40AA-B976-F94CA91E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BF62-6F3F-4B57-81D1-F47DBEFA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C19-BD97-4B66-902F-BA4DBF4C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1BA3-612F-476F-AF44-19D47E27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345B-FAD2-4503-A1AE-A7E38E10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C68A-8D21-4C09-82AB-6D07BF4E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8120" y="609120"/>
            <a:ext cx="5410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1BC5-AEBA-4295-A018-C3847A4D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6260-7E22-47A4-8252-9704AA64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483E-AE52-467C-9D66-8450AD08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2E22-6714-4ADA-9B7F-714BB412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1936-D2BB-4834-9690-BC3D83BC4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ladars.net/" TargetMode="External"/><Relationship Id="rId2" Type="http://schemas.openxmlformats.org/officeDocument/2006/relationships/hyperlink" Target="http://www.obnovasrpske.org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1" lang="sr-CS" sz="48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1" lang="sr-CS" sz="4800" spc="-1" strike="noStrike">
                <a:solidFill>
                  <a:srgbClr val="c00000"/>
                </a:solidFill>
                <a:latin typeface="Calibri"/>
                <a:ea typeface="Calibri"/>
              </a:rPr>
              <a:t>РЕПУБЛИКА СРПСКА ОПОРАВАК ОД ПОПЛАВ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Радмила Михић, помоћник минист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Министарство финансија Р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Сарајево, октобар 2014. годин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87280" y="691920"/>
            <a:ext cx="56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Јединствени регистар ште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10920" y="1989000"/>
            <a:ext cx="806292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База података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која обухвата податке о појединачним штетама насталим на стамбеним,привредним, енергетским и пољопривредним објектима; опреми, механизацији, усјевима и засадима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сточном фонду; саобраћајној инфраструктури; објектима водоснабдијевања и канализације; објектима водозаштите и хидромелиорационим објектима и објектима јавних институц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даци су јавни и објављују се на интернет страници Владе Р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alibri"/>
                <a:ea typeface="Calibri"/>
                <a:hlinkClick r:id="rId1"/>
              </a:rPr>
              <a:t>www.vladars.ne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alibri"/>
                <a:ea typeface="Calibri"/>
                <a:hlinkClick r:id="rId2"/>
              </a:rPr>
              <a:t>www.Obnovasrpske.or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2468520" y="1341360"/>
            <a:ext cx="8102520" cy="85345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Електронске картице „Обнова Српске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55640" y="2276640"/>
            <a:ext cx="7772400" cy="47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Максимална вриједност картице 5.000,00 К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За набавку робе и услуга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грађевински материјал, материјал за инсталације, намјештај, технички уређаји у домаћинству,комуналне услуге, обавезе према банкама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Важе до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01.07.2015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166  привредних субјеката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потписало уговор са Фондом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18.7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  платних картица подијељено закључно са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.10.2014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19.279 регистрованих домаћинстава за додјелу платне картиц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3280" y="764640"/>
            <a:ext cx="54100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Приједлози пројеката за обнов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5280" y="1844280"/>
            <a:ext cx="8569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инистарства Владе РС доставила су приједлоге пројеката у складу са препорукама из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RNA-PDNA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цијењена вриједност око 705 мил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љопривре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јекти санације штета у пољопривредној и сточарској производњи, увезивања примарне производње и прерађивачке индустрије, набавка противградне заштите и развој прогнозно-извјештајне службе – 52.500.000,00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27280" y="62028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Приједлози пројеката за обнов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3640" y="210456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бразов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нација и реконструкција основних и средњих школа и објеката културе- 4.290.472,00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бавка санитетских возила за домове здравља угрожене поплавама-700.000,00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Јавне услуг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нација јавних институција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 обезбјеђења услова за ефикасно пружање услуга грађанима - 6.481.770,00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Приједлози пројеката за обнов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34680" y="2133360"/>
            <a:ext cx="8496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маћин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нација стамбених објеката - 472.000,00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Енергет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нација електродистрибутивне мреже - 17.601.420,00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Транспопрт и комуника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емонт пружне дионице Модрича-Шамац, санација јединица поштанске мреже, санација путне инфраструктуре, набавка приоритетне опреме и транспортних средстава - 167.020.000,00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Приједлози пројеката за обнов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360" y="1915920"/>
            <a:ext cx="77724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вреда и запошљав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Обнова и санација производних капацитета, санација штете у туризму, подршке запошљавању у поплављеним подручјима, обука за рад незапослених,запошљавања лица са инвалидитетом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455.796.637,00 К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hart 4" descr=""/>
          <p:cNvPicPr/>
          <p:nvPr/>
        </p:nvPicPr>
        <p:blipFill>
          <a:blip r:embed="rId1"/>
          <a:stretch/>
        </p:blipFill>
        <p:spPr>
          <a:xfrm>
            <a:off x="1042920" y="2637000"/>
            <a:ext cx="530244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Приорите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бнова инфраструктуре (домаћинства, школе, путеви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моћ угроженим друштвеним категорија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поравак пољопривред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поравак система јавних услу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мањење ризика од будућих непо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имјена принципа 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uild Back Better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900" spc="-1" strike="noStrike">
                <a:solidFill>
                  <a:srgbClr val="ff0000"/>
                </a:solidFill>
                <a:latin typeface="Book Antiqua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</a:rPr>
              <a:t>Хвала на пажњи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Радмила Михић, помоћник минист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Министарство финансија Р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.mihic@mf.vladars.net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276720" y="1989000"/>
            <a:ext cx="288612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сљедице поплава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4000" y="1699920"/>
            <a:ext cx="784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Штете и губици у РС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1.893.830.000 К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плавама захваћено</a:t>
            </a:r>
            <a:r>
              <a:rPr b="0" lang="sr-Latn-BA" sz="2800" spc="-1" strike="noStrike">
                <a:solidFill>
                  <a:srgbClr val="000000"/>
                </a:solidFill>
                <a:latin typeface="Calibri"/>
              </a:rPr>
              <a:t> 40%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иторије РС и </a:t>
            </a:r>
            <a:r>
              <a:rPr b="0" lang="sr-Latn-BA" sz="2800" spc="-1" strike="noStrike">
                <a:solidFill>
                  <a:srgbClr val="000000"/>
                </a:solidFill>
                <a:latin typeface="Calibri"/>
              </a:rPr>
              <a:t>58%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купног становниш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19 људи изгубило живот током попл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55.000 расељених људ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15760" y="549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ком каме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4000" y="1699920"/>
            <a:ext cx="78483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C:\Users\rmihic\Desktop\6df35_poplave-republika-srpska-banja-luka-tviter-1400337757-498631.jpg"/>
          <p:cNvPicPr/>
          <p:nvPr/>
        </p:nvPicPr>
        <p:blipFill>
          <a:blip r:embed="rId1"/>
          <a:stretch/>
        </p:blipFill>
        <p:spPr>
          <a:xfrm>
            <a:off x="1692360" y="1844640"/>
            <a:ext cx="3254400" cy="1908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www.sobijeljina.org/galerija/galerija/gal_38_slika_1618_velika.jpg"/>
          <p:cNvPicPr/>
          <p:nvPr/>
        </p:nvPicPr>
        <p:blipFill>
          <a:blip r:embed="rId2"/>
          <a:stretch/>
        </p:blipFill>
        <p:spPr>
          <a:xfrm>
            <a:off x="4946760" y="1844640"/>
            <a:ext cx="3392280" cy="1908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www.sobijeljina.org/galerija/galerija/gal_38_slika_1658_velika.jpg"/>
          <p:cNvPicPr/>
          <p:nvPr/>
        </p:nvPicPr>
        <p:blipFill>
          <a:blip r:embed="rId3"/>
          <a:stretch/>
        </p:blipFill>
        <p:spPr>
          <a:xfrm>
            <a:off x="1692360" y="3753000"/>
            <a:ext cx="3254400" cy="2124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http://vijesti365.com/wp-content/uploads/2014/05/poplave-modrica-dnevne.jpg"/>
          <p:cNvPicPr/>
          <p:nvPr/>
        </p:nvPicPr>
        <p:blipFill>
          <a:blip r:embed="rId4"/>
          <a:stretch/>
        </p:blipFill>
        <p:spPr>
          <a:xfrm>
            <a:off x="4946760" y="3759120"/>
            <a:ext cx="339228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44280" y="549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ком каме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000" y="1699920"/>
            <a:ext cx="78483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http://static.mondo.rs/Picture/346220/jpeg/doboj-4.jpg"/>
          <p:cNvPicPr/>
          <p:nvPr/>
        </p:nvPicPr>
        <p:blipFill>
          <a:blip r:embed="rId1"/>
          <a:stretch/>
        </p:blipFill>
        <p:spPr>
          <a:xfrm>
            <a:off x="1619280" y="1884240"/>
            <a:ext cx="3394080" cy="1908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http://images3.kurir-info.rs/slika-900x608/poplave-bosna-doboj-foto-beta-1401108056-504851.jpg"/>
          <p:cNvPicPr/>
          <p:nvPr/>
        </p:nvPicPr>
        <p:blipFill>
          <a:blip r:embed="rId2"/>
          <a:stretch/>
        </p:blipFill>
        <p:spPr>
          <a:xfrm>
            <a:off x="5013360" y="1844640"/>
            <a:ext cx="3213000" cy="1908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http://www.banjaluka.com/wp-content/uploads/2014/05/Banjaluka_nakon_poplava_2.jpg"/>
          <p:cNvPicPr/>
          <p:nvPr/>
        </p:nvPicPr>
        <p:blipFill>
          <a:blip r:embed="rId3"/>
          <a:stretch/>
        </p:blipFill>
        <p:spPr>
          <a:xfrm>
            <a:off x="1619280" y="3792600"/>
            <a:ext cx="3394080" cy="1906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http://www.novosti.rs/upload/images/2014/04/25n/rs%20poplave.jpg"/>
          <p:cNvPicPr/>
          <p:nvPr/>
        </p:nvPicPr>
        <p:blipFill>
          <a:blip r:embed="rId4"/>
          <a:stretch/>
        </p:blipFill>
        <p:spPr>
          <a:xfrm>
            <a:off x="5013360" y="3792600"/>
            <a:ext cx="321300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85680" y="609120"/>
            <a:ext cx="60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ако је РС реаговала да ублажи посљедице поплав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55640" y="2205000"/>
            <a:ext cx="777240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Влада РС и градови/општине почели са пописом штете и учешћем у изради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RN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звјешта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безбјеђивање средстава за обнову РС: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PayPal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чун, преговори са Свјетском банком и ММФ, учествовање на Донаторској конференцији, припрема нових законских и подзаконских ак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Јединствени регистар шт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спостављање Фонда солидарности за обнову Р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03640" y="40428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аконска регулати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3640" y="1052640"/>
            <a:ext cx="85690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родна скупштина Републике Српске по хитном поступку усвојила сљедеће закон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кон о Фонду солидарности за обнову Републике Српск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кон о посебном доприносу за солидарнос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кон о накнадама за коришћење природних ресурса у сврху производње електричне енерг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кон о измјенама Закона о порезима на употребу, држање и ношење доба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кон о измјенама и допунама Закона о посебним републичким такса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кон о измјенама и допунама Закона о посебним начинима измирења пореског дуг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Закон о измјенама и допунама Закона о порезу на непокретн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87640" y="62028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Законска регулатива - ефек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989000"/>
            <a:ext cx="8424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едвиђена подјела  платних картица од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5, 000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К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за реконструкцију стамбених објек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докнаде за коришћење хидроелектричних постројења су повећане с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0,005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К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0,010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К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као и надокнаде за коришћење необновљивих природних извора с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0,003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К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0,006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К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Износ пореза на моторна возила је повећан од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5%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50%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рез на посједовање оружја и муниције за личну сигурност је повећан з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50%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у односу на претходни износ поре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Законска регулатива - ефек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5280" y="2205000"/>
            <a:ext cx="849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Ослобађају се од посебне републичке таксе порески обвезници који су били поплављени и то з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014.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годину (правна лица и предузетниц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Уведено је репрограмирање за пореске обвезнике који су претрпјели директну материјалну штету током поплав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могућност репрограмирања обавеза доспјелих за плаћање до 30.јуна 2014. уз једногодишњи бескаматни грејс период  у којем се не мора доставити колатера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Дозвољено је јединицама локалне самоуправе да ослободе од опорезивања порезом на непокретности одређени период оне пореске обвезнике који су претрпјели материјалну штету узроковану поплавама у м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2014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43320" y="62028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Фонд солидарности за обнову Републике Српс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25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900000" y="1969920"/>
            <a:ext cx="3610080" cy="4627800"/>
          </a:xfrm>
          <a:custGeom>
            <a:avLst/>
            <a:gdLst>
              <a:gd name="textAreaLeft" fmla="*/ 176040 w 3610080"/>
              <a:gd name="textAreaRight" fmla="*/ 3434040 w 3610080"/>
              <a:gd name="textAreaTop" fmla="*/ 176040 h 4627800"/>
              <a:gd name="textAreaBottom" fmla="*/ 4451760 h 4627800"/>
            </a:gdLst>
            <a:ahLst/>
            <a:rect l="textAreaLeft" t="textAreaTop" r="textAreaRight" b="textAreaBottom"/>
            <a:pathLst>
              <a:path w="21600" h="27689">
                <a:moveTo>
                  <a:pt x="3600" y="0"/>
                </a:moveTo>
                <a:arcTo wR="3600" hR="3600" stAng="16200000" swAng="-5400000"/>
                <a:lnTo>
                  <a:pt x="0" y="24089"/>
                </a:lnTo>
                <a:arcTo wR="3600" hR="3600" stAng="10800000" swAng="-5400000"/>
                <a:lnTo>
                  <a:pt x="18000" y="276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Приходи Фонда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посебан допринос за солидарнос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домаће и иностране донације и помоћ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кредитна средства Републике и јединица локалне самоуправ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буџетска средства Републике и јединица локалне самоуправ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накнада за коришћење природних ресурса у сврху производње ел. енергиј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средства остварена продајом имовине стечене кривичним дјел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дио накнада за употребу, држање и кориштење добара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ounded Rectangle 10"/>
          <p:cNvSpPr/>
          <p:nvPr/>
        </p:nvSpPr>
        <p:spPr>
          <a:xfrm>
            <a:off x="5219640" y="1969920"/>
            <a:ext cx="3435480" cy="4627800"/>
          </a:xfrm>
          <a:custGeom>
            <a:avLst/>
            <a:gdLst>
              <a:gd name="textAreaLeft" fmla="*/ 167400 w 3435480"/>
              <a:gd name="textAreaRight" fmla="*/ 3268080 w 3435480"/>
              <a:gd name="textAreaTop" fmla="*/ 167400 h 4627800"/>
              <a:gd name="textAreaBottom" fmla="*/ 4460400 h 4627800"/>
            </a:gdLst>
            <a:ahLst/>
            <a:rect l="textAreaLeft" t="textAreaTop" r="textAreaRight" b="textAreaBottom"/>
            <a:pathLst>
              <a:path w="21600" h="29096">
                <a:moveTo>
                  <a:pt x="3600" y="0"/>
                </a:moveTo>
                <a:arcTo wR="3600" hR="3600" stAng="16200000" swAng="-5400000"/>
                <a:lnTo>
                  <a:pt x="0" y="25496"/>
                </a:lnTo>
                <a:arcTo wR="3600" hR="3600" stAng="10800000" swAng="-5400000"/>
                <a:lnTo>
                  <a:pt x="18000" y="290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Средства Фонда се користе за санацију штета од поплава н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стамбеним објектим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привредним објект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енергетским објект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пољопривредним објектима, опреми, механизацији усјевима и засад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сточном фонд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саобраћајној инфраструкту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објектима водоснабдијевања и канализациј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објектима водозаштите и хидромелиорационим објектима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објектима јавних институциј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ight Arrow 11"/>
          <p:cNvSpPr/>
          <p:nvPr/>
        </p:nvSpPr>
        <p:spPr>
          <a:xfrm>
            <a:off x="4568760" y="4057560"/>
            <a:ext cx="579600" cy="403200"/>
          </a:xfrm>
          <a:prstGeom prst="rightArrow">
            <a:avLst>
              <a:gd name="adj1" fmla="val 50000"/>
              <a:gd name="adj2" fmla="val 50166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07:13:24Z</dcterms:created>
  <dc:creator>olukic</dc:creator>
  <dc:description/>
  <dc:language>en-US</dc:language>
  <cp:lastModifiedBy>operater</cp:lastModifiedBy>
  <cp:lastPrinted>2014-10-14T13:20:23Z</cp:lastPrinted>
  <dcterms:modified xsi:type="dcterms:W3CDTF">2014-10-14T15:26:54Z</dcterms:modified>
  <cp:revision>271</cp:revision>
  <dc:subject/>
  <dc:title>ИЗГРАДЊА ДРУМСКЕ ОБИЛАЗНИЦЕ ОКО ГРАДА ТРЕБИЊА</dc:title>
</cp:coreProperties>
</file>